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81890"/>
        <c:axId val="60163937"/>
      </c:barChart>
      <c:catAx>
        <c:axId val="66181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63937"/>
        <c:crosses val="autoZero"/>
        <c:auto val="1"/>
        <c:lblAlgn val="ctr"/>
        <c:lblOffset val="100"/>
        <c:noMultiLvlLbl val="0"/>
      </c:catAx>
      <c:valAx>
        <c:axId val="60163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81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800-04AA-4187-8836-F2166DE0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001-A2C2-4EFF-A059-E5F5FC53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F8F-0273-4EE5-B53B-594E7D27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CFC-C131-4F4B-BC31-73D062B8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6E0-484E-4577-8730-380F5F2D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A3B-01AF-436E-9277-DD43A21E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B6E-8019-4C39-96EB-8D247105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BB3-F324-4F96-BB1D-C722AF83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110-3E93-454A-A747-1CC51CDE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F23F-4184-4F1C-9321-A1B48630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AC0-529D-45D9-93BD-F8C3CE82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BE2-CD49-4A46-BDF1-D253337F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825B9-69C7-43EE-8218-6D1FD2C15F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