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35304"/>
        <c:axId val="11554643"/>
      </c:barChart>
      <c:catAx>
        <c:axId val="82535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54643"/>
        <c:crosses val="autoZero"/>
        <c:auto val="1"/>
        <c:lblAlgn val="ctr"/>
        <c:lblOffset val="100"/>
        <c:noMultiLvlLbl val="0"/>
      </c:catAx>
      <c:valAx>
        <c:axId val="11554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35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638-A3E1-4E1C-99ED-85EF5C47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BFB-3A0D-4B7F-A4FD-85E30A9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527-9501-4BD6-B940-B84E3341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D28-5C2C-4924-BAD5-C9905F2B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2D1-A90B-44B6-9163-D40F9B35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9A0-2285-42C2-899E-A01A004C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0B5-CD4F-4D52-A72B-BC8CEEA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B0B-31BB-407A-B43B-DC14FC8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77D-573E-4228-A127-B82B80F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393-3EBE-4213-B486-C79FE05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689-DBC3-4449-B9B4-9392D6D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6DF-3167-42BE-81CC-BCF82B1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8EF0-0A98-4329-98E1-3F4256053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